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076A-4FF2-44E5-B3F4-44BDD47B8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6171-B56F-4A71-9AF8-A1E6531D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085E7-7779-4D0B-9297-C35A5944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A27C1-1935-4DB0-BC9D-691D425A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000828-8442-49EF-B412-6D2DC4BA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B8605-C901-477E-92BA-F721B038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44FFB-BDFF-4F89-90F8-6010B724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BB6FB-34DD-4B5B-BB90-23E368CC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5B299-4F8C-481A-AE24-BAE3FE48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5CAFC-476C-4C3B-900A-62855BB6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6ABF3-47CA-4F5A-A05C-953CE8090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DB7255-7B96-463B-B9FC-DF0DACC3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47DE-90A8-4825-A30E-8332A6D2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1609E-5EA1-4F01-8F4E-CF86F776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2C316-159C-46BA-A8EB-2DF57EA7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31E34-2DBC-4A83-96B2-E2B35ACD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9C3DB-C19D-48DE-BD36-45244FDA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CEC84-E2E7-4DBA-9532-651BEA8E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5CB93-F0C3-4F30-A6D0-EA8B6191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DA1C0-C720-4E2B-AAF6-D7D544A2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401B0-64DE-4C1C-857C-33121AE2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A88F7-9000-4D50-A1C6-A1334055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CD315-61F6-4F87-BB35-B69C08F1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0600-B296-4D6B-9CCF-230ABDFEA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B547A-5570-477D-927E-F49AB0317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9AA15-8291-4EA0-B976-F9053DC10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80668-062D-4C30-BC5F-2FCE9FCD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7FC86-48C8-4B9E-BE35-5F703DDD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1C3CA-01FF-4D1D-8273-00BDF679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EE8D4-C6B4-473D-9820-730CE737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949F6-A118-4840-926B-7C9D791E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19CA1-73D3-4545-935F-1B1F6DC7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9BD4C-E359-4AD1-902E-DF5553BC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9CEEF-E765-430E-A66C-095786A2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ADBD-F1E9-4599-A6B1-F8043435C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847ED-5A19-4A35-8AD2-44B87FD4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4841D-9167-4010-AB13-08961A0A5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6378D-6279-4EDF-8A3E-AA5BAAEF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CE21DA-091F-45F8-9420-5AA00FE9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8D184-A72F-472F-9810-777A28F4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6CBF6D-D48A-40F3-85B1-6D3B1D67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BAA2D-C93E-4DD8-8B05-00FC0C84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0BA005-1501-4AE2-ACEC-1128186C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40A7F-EBBD-41F1-B00E-36636A21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3F2BA-EC24-4054-9FC7-9C781499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DE8A-0E85-4A33-8BAE-31FC9FF4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7E9AA3-0DE3-48C7-BD89-E0B77000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004FD-EB47-43F0-989B-A0DE5E27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3975E5-C7D4-4501-84DA-7796DCB6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6B534-B523-48E5-9026-9D9BADAB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FD776C-EB81-4807-84EE-36AB038FB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80B422-6955-4341-80FD-E7B92EB4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68D68D-C057-4BB7-A8AD-B26C1460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E8E0B9-278D-41DE-BFEC-30368FF0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8B25D9-204D-4AE8-A471-B8789B4D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EE9BA7-ED1B-4088-8076-B1AE9596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D65C-50ED-455C-BC51-73A96C14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3C77A5-3B53-49BF-8853-3ABA8AD3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3C0611-D4E5-4568-81D0-78F99765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89AE09-74BB-4E2D-91CE-458E187B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BD3CDD-E8FE-43BF-A934-E705F798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884A3D-5773-48E5-AA07-999B153F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040FAE-5EEA-49BF-AC44-61F55536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210800-CCCB-47E6-B915-60EE5BCB6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1ACBB7-A20E-4916-9645-F82E4381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AE1449-F1E4-4BEB-9D40-CAF1669B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64C023-3F2B-4C6C-A2AB-7F74D3E2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5D78-A626-4E94-9090-77828731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8CE291-D19E-47C4-A3FC-D67B47CD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992892-CF34-4571-8A44-B1D92F79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86DB60-C03B-489E-8B23-94CDA09A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B1D9CE-909D-4655-9AB1-CBB263AF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288FDA-D59F-4EEE-8434-9950A475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9E1A0F-4E6F-4562-BF14-6BB04EA8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54C5D2-FA1C-4478-95BF-4238789C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64E2CB-D612-4CB9-82DF-D3083F6C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0BA1D1-E659-46AE-A4C1-981F6A76E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CDFE23-DF57-4DDA-9B1D-920DB506B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A6B2-850F-4FDA-A246-9244F79B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7F3C60-649C-44CB-9154-9030127C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AE9BC5-992A-42F2-A55E-83DD835E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391DFA-E632-4777-B533-35A557DE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1B5CDA-E0EE-4CEA-81F9-62BBE30E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4870A8-0D32-497B-93BE-54BCA82A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AC4FB9-161F-4B7C-9FA0-361C2265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D32CB2-878D-4B52-8A01-C19E0DA7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B4F425-798E-4E74-AAA0-0B9E4BF2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354CF1-FBC2-42F8-AD89-4134A411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191432-6C77-4233-8316-A561332E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36C6-DEB3-4615-9D6D-490C5371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9E1A5C-9AED-4EAE-AEE4-745AEC68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266118-2D35-4164-B4FF-44646192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AD7AD4-E2B6-49AB-BBCE-C7DD56E7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CBC11A-BD6F-4DDC-8D5F-55C7A63C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A47474-7985-426A-A190-7749DEB7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0AFA91-917C-41BA-AA5B-019461F7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E83F3D-DFBC-4F0E-917D-F1EECDE8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FFBEDE-14A3-46ED-B725-90733EF1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585E9A-BDE4-4BCD-8E7E-26DE8B8D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86C151-C333-41E2-8C71-D68E79BB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5251-0234-4E21-BBCB-AD3BDFFE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289B32-C595-491E-A999-333953D5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134FA9-2074-4BA5-92BC-A95BD0F2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6184A3-3F3D-4D1E-95A1-576D81D78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C32FE5-365E-45AD-9167-1A982DAD9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84742C-9DDD-4341-ACA7-6C06AFB6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D016F2-3230-4F50-AF8A-924193CC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4F489D-705F-4B1A-816C-CEE04307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83B59E-CCF4-4D73-A370-7F7D4C03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4C25AF-65D2-483C-BD11-C8493C47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D7C81C-3A47-4C74-80A0-2C62316B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1E50-B81D-4508-B4AB-70100984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581F-DD9E-4B2A-9130-C512680F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55451E-92D5-419F-88C6-F34EFBE1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C71BB2-8EFA-41E1-8C22-39D6ECB4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469727-5A74-4BEB-8342-882E325B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216801-F154-49C5-B372-3BAF9A38A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32A347-34CF-482D-9FB4-7AFF12C63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08DF00-4D1C-43A9-9FAF-6B83D70E9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63B438-6659-43B9-8BAB-6F613A6C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9FFA5E-44CE-4C57-83D2-5C875392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9CABBE-C9C3-4404-8487-D6BA4C35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62FD72-18D5-4214-8C20-3C9088D7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BFBF-5415-4D0B-AB24-13E380E0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8BAECA-9567-4B12-A4D3-97E3A443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CF8DEE-528F-44E0-9C1A-2F19323A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ADC4DC-FEE0-438C-860C-31702248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CEB3ED-C557-47C3-94AA-E2F05DBD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5577F2-C9BC-4930-9174-2875CC56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3F6D48-2358-4AE2-B347-B76B5A9B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D6C987-C7E1-4087-9603-B598901E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CE11F4-223A-4473-BFE6-E060EA2F4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1BBB56-8163-4C75-A33B-5E4B66EB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4E4E4B-D48B-409F-B257-676B98BB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3216-0716-4056-84AC-6DEAA764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641C99-F68B-443E-A331-BCDD29C9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755771-AB2E-4E77-81B0-5D9AC0F3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97FBD4-936A-4A92-8F2B-907DB0EB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2E1C92-5471-42BE-B7BE-70223B7F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49EF13-EDE4-4B91-AE77-068BAA6F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BA842E-639E-429B-95E2-86B44D9F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635A70-7B8A-4C5A-BF56-36CDCB1C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EBFDB3-A7D1-4FCE-A452-BC2A9E1D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B40FFB-6FC0-47F0-A6B1-4EA6D6485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5A3350-51B6-4AFF-90D0-3A0DB712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E205-30A9-46BF-91FB-4B5521B04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E05010-38DA-49B2-BCD8-91A2BF56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5E0143-B3FB-411C-9E2E-0340FB93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78092C-FA15-4932-9B82-C3604C7F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4F6DD7-0748-4959-A745-B4E62EE1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BB7964-ECAA-4E5C-8980-74E63539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90FF5F-EBC9-4663-AB39-EC2DEF45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0336F3-55AF-4E5B-B58B-B5F9248F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AE1E0B-CB7E-4C77-924A-FDD013D4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661FAA-244C-4B97-9A52-95B43F3F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9C3E0F-CCB4-4566-9645-5A1939CC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7C6A-DFBA-49AF-A9D3-29C0E118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95D2E0-A09E-4973-AFC8-011744577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7475E1-3E83-4261-A3B5-80A01FDCE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6718C0-5817-4FCD-9543-358F086C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594D9C-2440-45DA-8E9F-EC77FE7A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AEBFB7-1895-4259-B874-BD2E3F4B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045543-5CE7-4C35-9DBB-A9E96B8C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2E547F-6287-4996-8B29-4E9F3CBA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058C83-4B23-430E-AA18-02B5F1D3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0B65EB-3A2B-4494-806C-8D7485E2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9451C1-CC4E-40F5-990D-05122B37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C92AF-5C13-46E9-B21A-9A66214F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FC250E-32E1-458C-8630-B8C3DB50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2A9594-2946-40CC-94D6-D620B51F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C392C4-6042-4022-BDA5-6EE78DA46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080CF4-B3AA-40A8-B0CD-549080921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C79FF7-116B-44F4-94DD-F07988A4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626DDF-38C9-4AA1-BB94-571DC75E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B180D9-51DD-449D-97CD-4FD3A046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BE9458-5548-41BA-AF33-B1D4DF40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54EB6D-AA70-48D3-A2E3-38BFEAD0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13D9DA-01EC-4564-8E75-8793B313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5BA1C-4167-4A7E-8E76-A5D09BEC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D02901-B2AB-4B9B-A43C-5C8BD111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9A93C3-B725-4E26-8319-383B7BE4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654490-6CBC-429B-B52B-23F5CF4B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C73778-85D0-40C1-8FA6-E64677B3F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CF6C4A-9148-4A4C-929B-CD147BA21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CC9475-48FE-45FD-8C73-B0FC753C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097564-1A89-4F85-9D00-94B4336B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F79F5E-B5D6-4C77-A3B8-687D1557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80D8CE-9C8D-4320-8315-2F5D1B95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43EC5C-3D5D-403F-BB3B-A4E0EFEB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04E2F-6E97-46D9-8C22-520A5261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A70557-6D85-4000-A11C-3CD4CE31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D0993D-6F83-4F63-9760-3572F567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97F627-A91E-4549-821F-D06F90C5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45EA5B-D74B-4BC7-9518-52B255E6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3BA9A9-2609-4E44-B538-8896D4DE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0F7C04-AF82-462D-A56D-7D8D0458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BD2E45-C2EB-445C-A06C-319B7528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5AD3D-A2D3-4838-A535-C4B5E0BE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3883D-A026-4321-B4D1-D5F2AE07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B8FA-02DD-4D50-B694-687BBA74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13B05-853A-44F7-92FA-3841F3E9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C3B1D-8E3C-4315-BCA3-5BC02C09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10C5F-879C-4EF6-9D10-413A8A6D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6E3DD-FC02-4561-9920-0C9F3DF6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9A32F-A8FE-4B81-8FE3-6F90839B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6E0CE-9754-49FF-9E03-2FD34C3D3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985B7-B7A7-4624-9069-B4719936A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B312E-F615-40A4-9648-822612162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B2319-629D-48BE-BBB3-8818FAE3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412B4-F5FE-4D2B-A474-A001A305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44A5-71A0-407D-AD4E-0139DA7E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4269E-4F4D-4C95-8C10-BE743BB6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4811A-90F7-464C-8604-E8B363C0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B692B-0303-4E1F-B131-FF9BB215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51163-5D59-41E1-947E-5B93B636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62580-13DB-4C51-81BE-FC4BED88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1BDAA-1296-4B64-9547-66E047C0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748A2-E232-43CF-ACE8-B28415D7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87A61-CEF0-4FBD-A571-A735E435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EA98E-96FD-409A-95CC-0FB5E18B8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49338-145E-456A-8A46-FC1B991E1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611C-0DA2-4F69-913D-3D790E7D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9B31E-0D22-453E-A7B0-46932427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07456-C9C2-4C4F-952F-E0F95507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D4DB1-F503-41BD-ADDC-9E1FB369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E5B81-6CA2-4DD4-8EEF-4442F807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C3120-2D11-42BA-8731-D8A27110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DB8B8-49CB-4F28-9EBA-97700736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9EC20-2574-4F35-8CE6-1CFE1AF0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4374D-01C6-42C5-B27A-1285F3F5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16CC9-781E-4B66-BA26-52B6091A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87F9D-D926-4A9B-8E04-C8CC60EFD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E88D-D477-4394-A9E9-147DCE48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102DB-BB9A-489D-A0E6-79CFAB956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EDB33-0538-4A97-AAC6-DCA68074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C4C3E-E7E2-46FB-98C6-2280D62D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AC3E1-20B8-490A-A944-424D9393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7E636-5A02-4C2E-ABCC-F05FD36E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A98C3-01D0-447F-9DEC-BE068CD6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BF104-D791-4453-956F-196EEA5A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255D3-9EDF-4560-8C5F-60A2C98E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5612C-28B8-49D2-B3B7-7BA61893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3138E-452C-4539-8E41-629FBA97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5C66-0B75-450C-A633-75F56332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98252-0EAA-43DE-A9FB-3A9E554B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E60BB-7B49-403D-AA5F-E44D080F8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3EB7C-69BE-4553-8679-26E6504D9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CB55C-834B-43EA-AC39-DCE52A07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4B2D1-50AE-4A0A-977A-E6BB934D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CFD19-0526-4C95-9B9D-55838E7D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B39DD-5D60-455B-804B-56A48AFE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D0CC7-BC42-41CA-8293-D027908B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0A9E7-CFDD-4BEE-A38A-82477184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5A866-4A09-460A-A30D-91870BFB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6C4A-5F85-4D2F-9648-13F6471C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0AC8F-90AC-424C-BA12-5750F78F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EFEF9-889F-42EF-A49B-E54D8DDC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E4ED4-177E-4158-BDD9-AE2425CD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A8975-9679-4F8D-88ED-FD68720F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2EEF0-5305-4DE1-A816-7DC605E6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3E610-6428-479E-A8FB-D204B154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91B59-FC4A-4FFC-8692-6D606749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FB3E6-82AB-477C-AC35-0E7D9EAE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B609A-6F0B-4130-AC1E-B1534116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09B46-0203-43D8-8D8B-CF6E5553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DC57-BA3D-43D3-BB2E-F8DD0649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A0C03-4D71-4B40-AD12-B522A0DD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30808-4E5C-4CE6-A9B8-9A4CA9D5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600EF-5D1F-4E93-90DF-CD496862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CE900-1C64-4C81-AA65-551A8181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7B890-B53E-4E00-BE65-22AA505A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8DFFB-B0DB-4586-9C29-12270716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73BFF-34A9-442F-BA3F-EF20AF5C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59D47-C296-4DB1-AC1A-62270A11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FC796-173C-4200-B388-A0884D93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687C8-A520-4113-890D-C8547384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9265-0857-4CE8-937E-30C3ABED7F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A22C-A2AF-4259-AFE5-7AB66487F7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05D1-7687-4A85-BFCC-908F20598C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079D-0C61-48E2-A5E0-84B2DB4282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73FB-4CD9-4673-AD44-8808747773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DA5B-4597-492B-AA32-917687AB8E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BDCF-E580-4740-9B2B-0EE641C2BF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D1BA-1AD6-47B5-9C21-F90935004B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D736-4C4D-4472-B438-76895FA880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E6DA-0C0D-48AA-BE31-BDEFCDEE7F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273D-8F56-4206-998D-A7D6A487BB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CEE5-A788-4CC2-9F31-0AAA9DAC82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BDF4-62E1-4387-91F5-8CA79C3B7F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0380-1FEB-4A60-8BE2-4FB9D58EC5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545F-83EA-4F27-A8E7-750E7A58E2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9361-861C-49B8-89C7-F73FF1DB6B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12BF-60E0-4C41-8BC0-9531B1F97B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272D-674F-42AC-AE18-3259D35C9B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4747-FCA9-44CB-8E09-41DC1F3B0A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A240-A32F-44E8-A7B4-F8672D6675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EDFB-4F4D-44CE-BFF3-08A1DC20BB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A503-5995-4A91-9EFA-C441651D34E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A5F5-4166-4DC9-BF14-E36E8BDB81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0A9C-2003-4499-B13A-10F2F6A77F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5063-8F97-4296-8034-2D5A204604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B43E-EA0F-4D40-8FE5-BA9D9D31A5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91C2-2899-48E0-BBD4-8A1654C15A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31F1-18EF-46AD-A743-51AAFBAE23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3AD1-3EAE-4B6C-AF3C-5A8816DCF6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2CF8-7CC1-4F91-9111-4FE6C76626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89C9-B528-4FFA-8147-5E23A541BA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A7D1-7C9E-4157-AB2A-B5B5AC37B3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962A-FFC1-48E1-8CFA-E3D87D6A61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8C63-71B5-4841-BFAF-1D7694E7C23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B5F6-3944-4110-9099-5100A8A074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7C53-01FA-441E-8A10-F88A883A14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B563-B1AA-418E-AB90-024A4653C4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2594-59BD-4A30-BB43-2789E83632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1668-05D7-4A18-B0CF-B304ADD6A3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534C-293D-4D4E-97F6-E642177589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6E5B-834C-42C2-BCA4-1CBAB9478D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C22B-388D-42D4-A687-1B02495DEF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230040" y="3009960"/>
            <a:ext cx="8823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196920" y="1133640"/>
            <a:ext cx="8751960" cy="1844640"/>
          </a:xfrm>
          <a:prstGeom prst="rect">
            <a:avLst/>
          </a:prstGeom>
          <a:ln w="0">
            <a:noFill/>
          </a:ln>
        </p:spPr>
      </p:pic>
      <p:pic>
        <p:nvPicPr>
          <p:cNvPr id="1044" name="图片 2" descr=""/>
          <p:cNvPicPr/>
          <p:nvPr/>
        </p:nvPicPr>
        <p:blipFill>
          <a:blip r:embed="rId2"/>
          <a:stretch/>
        </p:blipFill>
        <p:spPr>
          <a:xfrm>
            <a:off x="1344600" y="3767040"/>
            <a:ext cx="7124760" cy="22669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3059280" y="155736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3348000" y="213372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5867280" y="1557360"/>
            <a:ext cx="505080" cy="4474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6"/>
          <a:stretch/>
        </p:blipFill>
        <p:spPr>
          <a:xfrm>
            <a:off x="5867280" y="2060640"/>
            <a:ext cx="50508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7"/>
          <a:stretch/>
        </p:blipFill>
        <p:spPr>
          <a:xfrm>
            <a:off x="8272440" y="1614600"/>
            <a:ext cx="649440" cy="447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8"/>
          <a:stretch/>
        </p:blipFill>
        <p:spPr>
          <a:xfrm>
            <a:off x="7999560" y="2075040"/>
            <a:ext cx="649080" cy="447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9"/>
          <a:stretch/>
        </p:blipFill>
        <p:spPr>
          <a:xfrm>
            <a:off x="3708360" y="4365720"/>
            <a:ext cx="649440" cy="4474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10"/>
          <a:stretch/>
        </p:blipFill>
        <p:spPr>
          <a:xfrm>
            <a:off x="3635280" y="5013360"/>
            <a:ext cx="649440" cy="447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11"/>
          <a:stretch/>
        </p:blipFill>
        <p:spPr>
          <a:xfrm>
            <a:off x="6732720" y="4365720"/>
            <a:ext cx="649080" cy="4474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12"/>
          <a:stretch/>
        </p:blipFill>
        <p:spPr>
          <a:xfrm>
            <a:off x="6948360" y="4941720"/>
            <a:ext cx="792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162000" y="700200"/>
            <a:ext cx="8820000" cy="60386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4067280" y="1557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4932360" y="223344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1908000" y="42498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2124000" y="626580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533520" y="1809720"/>
            <a:ext cx="8076960" cy="323856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7524720" y="2565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4427640" y="462456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385920" y="504720"/>
            <a:ext cx="8372160" cy="620100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2"/>
          <a:stretch/>
        </p:blipFill>
        <p:spPr>
          <a:xfrm>
            <a:off x="5292720" y="1901880"/>
            <a:ext cx="3311640" cy="44748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3"/>
          <a:stretch/>
        </p:blipFill>
        <p:spPr>
          <a:xfrm>
            <a:off x="5435640" y="2608200"/>
            <a:ext cx="331164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4"/>
          <a:stretch/>
        </p:blipFill>
        <p:spPr>
          <a:xfrm>
            <a:off x="5292720" y="4941720"/>
            <a:ext cx="331164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5"/>
          <a:stretch/>
        </p:blipFill>
        <p:spPr>
          <a:xfrm>
            <a:off x="5364000" y="5589720"/>
            <a:ext cx="3311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图片 1" descr=""/>
          <p:cNvPicPr/>
          <p:nvPr/>
        </p:nvPicPr>
        <p:blipFill>
          <a:blip r:embed="rId1"/>
          <a:stretch/>
        </p:blipFill>
        <p:spPr>
          <a:xfrm>
            <a:off x="681120" y="1643040"/>
            <a:ext cx="7781760" cy="357192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2"/>
          <a:stretch/>
        </p:blipFill>
        <p:spPr>
          <a:xfrm>
            <a:off x="5076720" y="2620800"/>
            <a:ext cx="338292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3"/>
          <a:stretch/>
        </p:blipFill>
        <p:spPr>
          <a:xfrm>
            <a:off x="5003640" y="3284640"/>
            <a:ext cx="338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1" descr=""/>
          <p:cNvPicPr/>
          <p:nvPr/>
        </p:nvPicPr>
        <p:blipFill>
          <a:blip r:embed="rId1"/>
          <a:stretch/>
        </p:blipFill>
        <p:spPr>
          <a:xfrm>
            <a:off x="328680" y="1743120"/>
            <a:ext cx="8486640" cy="337176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2"/>
          <a:stretch/>
        </p:blipFill>
        <p:spPr>
          <a:xfrm>
            <a:off x="4932360" y="3213000"/>
            <a:ext cx="396072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3"/>
          <a:stretch/>
        </p:blipFill>
        <p:spPr>
          <a:xfrm>
            <a:off x="4859280" y="3860640"/>
            <a:ext cx="3960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1047600" y="1809720"/>
            <a:ext cx="7048800" cy="32385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5148360" y="2781360"/>
            <a:ext cx="2879640" cy="447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5148360" y="3429000"/>
            <a:ext cx="2879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1" descr=""/>
          <p:cNvPicPr/>
          <p:nvPr/>
        </p:nvPicPr>
        <p:blipFill>
          <a:blip r:embed="rId1"/>
          <a:stretch/>
        </p:blipFill>
        <p:spPr>
          <a:xfrm>
            <a:off x="104760" y="104760"/>
            <a:ext cx="8934480" cy="6648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755640" y="1036800"/>
            <a:ext cx="3095640" cy="447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900000" y="1700280"/>
            <a:ext cx="5327640" cy="447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755640" y="2349360"/>
            <a:ext cx="5327640" cy="447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684360" y="2997360"/>
            <a:ext cx="5327640" cy="447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6"/>
          <a:stretch/>
        </p:blipFill>
        <p:spPr>
          <a:xfrm>
            <a:off x="684360" y="3701880"/>
            <a:ext cx="5327640" cy="447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7"/>
          <a:stretch/>
        </p:blipFill>
        <p:spPr>
          <a:xfrm>
            <a:off x="826920" y="4292640"/>
            <a:ext cx="5327640" cy="4474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8"/>
          <a:stretch/>
        </p:blipFill>
        <p:spPr>
          <a:xfrm>
            <a:off x="826920" y="4941720"/>
            <a:ext cx="532764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9"/>
          <a:stretch/>
        </p:blipFill>
        <p:spPr>
          <a:xfrm>
            <a:off x="826920" y="5589720"/>
            <a:ext cx="5327640" cy="4474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0"/>
          <a:stretch/>
        </p:blipFill>
        <p:spPr>
          <a:xfrm>
            <a:off x="971640" y="6237360"/>
            <a:ext cx="5327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114480" y="309600"/>
            <a:ext cx="8915400" cy="62388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900000" y="3846600"/>
            <a:ext cx="4319640" cy="4474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841320" y="4494240"/>
            <a:ext cx="468000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4"/>
          <a:stretch/>
        </p:blipFill>
        <p:spPr>
          <a:xfrm>
            <a:off x="826920" y="5157720"/>
            <a:ext cx="525780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5"/>
          <a:stretch/>
        </p:blipFill>
        <p:spPr>
          <a:xfrm>
            <a:off x="755640" y="5805360"/>
            <a:ext cx="5257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29:47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